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6D43-9363-49D4-AA70-5C4DAC196E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A59C-3CCB-4264-8B46-9A74C600A33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86F8-5D28-4846-9EA7-529B07B6234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091E-7D19-4CE3-8AF0-08CEDDA1702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842-7094-42AA-BED3-35509F6AEB6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C503-0E7C-4BFF-91A8-59F6B21C1F3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0BB-FBCC-4EFC-AE5D-65A0D8D107E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CA9-B5EE-4E7A-A74D-4A914974E5A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31C4-3C7C-4446-B863-15027E3FCA1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C968-287B-46E6-ABDC-D9252F107CA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A1D-7255-42D5-93BE-5414A204A67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685-028D-4FF9-8A8E-86B5624C188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906-EFDD-4055-A950-7AE50261808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C60-0667-4DD0-AD01-AC7034C505B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4A0-4F18-46F2-BDD2-48363A3253B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egnaposto numero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859-101D-453C-9D64-8D58B675961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F5A-33E4-422D-A308-0228CB05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271-3F26-4811-B116-C1B3737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2CEE-930F-4CA9-B7E8-763CAB22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2F2F2-E9B4-4EE5-A93B-589B0FF2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763C-B105-42A3-B2A0-42B7E6A6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9B211-168F-432B-BE83-65DDCF0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A43F8-78BC-4C58-8638-03F7ADC7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D0D17-5A8E-493B-97E7-4C1A0ED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12C64-CF1D-46CD-B5D0-4B021443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7C56F-7E09-4372-BA3A-0F72F4D7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DB436-5DD9-4081-875B-1C5A511F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B8902-0907-4A2D-BA0D-2FC78F4C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C8A-770D-494E-AB7C-382F4484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9FE5F-3AB5-447D-9E91-4A3AE8A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211C3-CE2C-4EBC-9776-E7438908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4D57-68F1-44FB-853C-BA6B428D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DE6A-6E9F-469F-818F-3EC17FA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078F8-FD85-47C0-8660-169BEC91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4F042-B86A-4672-9271-99F83D3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E7682-A51B-455E-B1A1-F29388C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5626-A589-4860-850E-DB6B8AA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09DBD-D45D-4278-ADAD-71D2654E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E4A8C-E0E1-48AC-9C23-2453976D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D59-D7C1-4166-89C3-F951EC76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E95E-8AB7-4D10-B4D6-36BCC2BB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608D-DDCA-42ED-940E-53E13D44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315C6-64D3-47EE-9073-D6FC833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99547-74B1-4E59-89BE-A252ECCE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72E2-377C-42F5-9746-F7C2053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54BC-3485-4973-980A-309E08B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D0A30-51C5-4C03-9824-CB373AB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77C0C-7BC8-4ED8-8135-59D0760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5BB1-5856-46EE-A28E-7F54750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4E37E-FC23-48EF-B5D9-C7310B4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32BE-7308-4029-AD36-A32B3CDA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31AF8-E643-42DC-BC34-50AB8B43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2F3E-D803-4996-A6D1-B1B4BAC6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3BF6-5AB1-4D2A-88F5-1BB62942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BC2A5-0964-4BD3-8E46-A343B0D9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E75A2-7793-4B85-AFCD-004B5DB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3990B-8072-4D7F-8D10-3E01CBE9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41D59-79B2-4146-BB60-BD8DC788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84512-7D2E-4A37-B005-6FBF537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F554F-81FD-4BC0-96D2-4E807B6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ADD4B-23A1-440C-BE9A-16D10F8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71F-33CD-4792-88B8-E8ABB8E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03B2C-0D82-4320-86F8-319A1894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2EF90-9A5C-49D9-AE5E-631D9B7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1D10B-D086-4EF5-A9BE-45CF9377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9CD0E-C104-4259-98FF-7E4D1D94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A266E-ABBC-4D69-9DEA-2EE06722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A003-3501-4EF1-BB1E-CAAD174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6B98-F751-41A7-B92A-C6E4AC24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AFF4-1555-481A-BDFB-85E9754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EC13-A9C6-461C-A5FB-A9F2EBD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5F4-3FD7-460E-A24B-034FC72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F4A-6690-421C-A370-C7E659D0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733F-5FB4-4E76-9ACA-D61459D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CE36-2EE9-4A97-BBE1-6D3EDBE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92A-4130-4C49-9047-F1B2679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01A7-FA6E-42FE-822A-2F492736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9DA-C68E-4B17-AC58-20A0AA4C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1807-C1CA-4922-9BF8-B7815336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D785-A351-4498-8ACA-685FBEA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A560-A7EB-481D-837C-77F4507A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D203-3714-4C95-A074-A714490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30C4-3519-47D9-9191-423A1DE9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9C5-19F5-4037-A0BC-8C91894B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0EAC-5A41-4FBC-BA99-C2EB2FA3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4356-E6CA-4176-8C68-42CE102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7C73-F03D-4A5B-BF38-F1B45FE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5030-B9B9-4150-9B0D-7FBCE0E8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7C85-0272-436C-BD06-F7B84AE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B9C5-561F-4772-8980-E6EAAB70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8857-5B33-4E8E-AC6A-9F3436F5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7F4B-BD93-413C-A358-798CCAA2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BFB1-11A2-4C23-B252-E796A78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3DEC-B90D-454A-BF07-DB166015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361-93E6-4EC1-A8F7-C4ED3CA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3862-EFBD-47E0-8475-3F6332F7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C7B3-F1CC-42A5-BBB4-0ADCFB61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28B7-B126-4AE4-A7EA-FEA923B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1C6E-CF05-4EA5-BDA2-FC0705B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0CF3-438C-496F-A3CC-5BD52C1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0C02-ABD7-453A-9340-3369239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6FA5-B8DE-40DF-B6C2-9E992ED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AE07-879E-4BD6-9A2A-3E48DAAB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AB26-4DF5-4185-A282-6499F039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0630-1DBF-407B-BFEC-3EC177A9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724-6339-4A67-AC0C-D3A2922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E5C9-D7E6-4E2A-8CB4-421324F8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EB8C-6530-4CA3-8230-23A5595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9E0F-A107-4989-B130-6DC112DC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145E-CB45-4A9A-8B4A-AA9DFFC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190B-392D-4223-9D25-F65732D2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85F1B-ACA1-4D01-84AD-C4AC97F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3473-6230-48CB-9F02-69DE80A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EBC6-E299-42F6-81F8-43F528A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3AF6-63EC-41F1-BF5E-27EE8830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FE7D-4D77-4851-98A2-3B6582B8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CDE-8093-4F47-A79A-5BAB28F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8A9C5-D424-4DA4-9A10-F6C0DD1E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8B6D-5B28-44C4-8D0B-23C592C9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8619-95C9-444C-982D-4E7A8F52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AAB8-C650-4270-BF52-8A928B9C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BEC7-6083-41F9-BEA7-058EE811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30CD-FA88-4911-96D2-7832812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8A49-D739-4AEE-BFC2-07634565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DF02-0FEB-467B-B7DB-CBBE029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BD3C-124F-43E0-8A28-643F82B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F167-2567-4050-9DD3-C0571E9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C93-6F6C-4674-9088-8EEE205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A889-6452-43DF-819D-0A914FEE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5534-FB5B-4DD3-BA56-926C7A5E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0E7D5-B7A0-4408-968A-1F866D65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103C-8EF7-49C8-8238-F209A665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D1B86-F3FC-4FBF-8135-669F926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EE57-89B4-40B7-8B74-DEA6CE6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6B8DD-808A-4FC4-89D9-908D2404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6FAB-AA0F-4904-9582-73903EAB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21908-FA64-4563-B2D3-F04E5B52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FAEC-B711-4327-A341-AD3EF76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7A9-CA2B-47F2-A385-C78249A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4AFE-B39D-47DC-9A94-94D1957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C8B78-BE16-4E62-8E91-450F76E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073C-2E34-44D8-9098-AD125B8C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1D3DC-0CAE-465E-9CD4-2021088F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1AE7-3EE6-488A-81CB-00EA9D41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B5832-C174-4905-A849-FB63C823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F6C2F-F1EC-4FCD-88B9-3C94DCAA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18DA0-1FC0-4502-A958-2B10BEC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2CF62-5DC6-4117-B6AE-666CDFF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FE4B-01D6-43BA-94B8-B5E0D8B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8FE-291C-42E6-B9D3-26C430D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33BFA-10AF-4418-80B6-958C57D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B3CB-69C9-4E5C-90D3-73E8625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A8F2F-8AA0-4045-BC7F-F93BE7B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3E6B-018E-44F0-A826-698B818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320C6-DA41-45B5-A7EE-726C65E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E0A7A-26A6-4ACC-8E7B-4FBD2035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33962-B42A-4FF9-9175-181D08A4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ABBCC-61E6-4D04-B273-DD5A2C10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779B8-30B7-4A59-86B4-637D4D2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06538-E8D9-4277-AA0E-C263D64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44DFBB-7C76-4B9F-84F6-565022279B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45B086-E07E-458A-B32E-D5D8FCDA1D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125C30-C4F5-4189-87BA-FB11340F13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EFB0D7-7408-493A-8D4A-264A7EFBC9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896A0F-E78B-42ED-9206-487F9A8C35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88EF18-63E6-4DFE-8C04-D3FE7CDC6C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3F2D8F-4DDE-42E1-B94E-BD26C07402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E379B6-5568-4D73-A3A5-4D883661B9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EB883D-2D2B-404E-9108-2FA274B3CA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31CF7F-E68D-4676-9CAF-B0034A26C6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5B1B05-7966-48FC-AB13-6057CB2319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slide_5feb2010_DEFINITIVA"/>
          <p:cNvPicPr/>
          <p:nvPr/>
        </p:nvPicPr>
        <p:blipFill>
          <a:blip r:embed="rId2"/>
          <a:stretch/>
        </p:blipFill>
        <p:spPr>
          <a:xfrm>
            <a:off x="0" y="5641920"/>
            <a:ext cx="8675640" cy="12160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828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2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F50F80-4657-482B-8746-0B2CC28347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Norme tecniche UNI: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cosa sono, a che cosa servono</a:t>
            </a:r>
            <a:br>
              <a:rPr sz="44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Roma, 27 nov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berto Gale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rigente Area Normazione 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processo norm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Messa allo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studio di fattibilità, assegnazione OT competente, I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Stesura del doc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partecipazione, confronto, condiv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Inchiesta Pubblica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verifica, valid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Pubbl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ratifica, emanazione, divulg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processo norm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Attività pre-n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verifica compatibilità con attività riservate per le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coinvolgimento delle parti interes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Costituzione Gruppo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ssociazioni figure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Rappresentanze consumatori/u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utorità compe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(Albi/Ordini, organismi di certificazione, università/ricer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processo norm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nizione dei contenuti della n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coerenza con Quadro Europeo delle Qualifiche (EQ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schema comune per tutte le figure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scopo e campo di appl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termini e defin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compiti e attività specif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requisiti di conoscenza, abilità e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elementi per la valutazione e convalida dei risultati dell’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quadro normativo 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Norme pubblicate: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nr. 8 nel 2013; nr. 24 negli anni ‘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In elaborazione: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rchivista, Bibliotecario, Traduttore/Interprete, e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Istruttoria pre-normativa: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Designer, Insegnante yoga, Mediatore familiare, e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Fase interlocutoria: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Incontri preliminari, in attesa di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Evoluzione del concetto di n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prodotti &gt; processi &gt; servizi &gt; figure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Norma UNI come strumento di qualif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enso &gt; vantaggio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Nuovo Appro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condivisione &gt; ef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Partecip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nessuna delega in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normazione@un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 principi della n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nsensu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pprovazione con il consenso delle parti interess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vergenza di interessi diversi su obiettivi com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isposta condivisa a esigenze diff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aggioranza qualificata, non unanim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olo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super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Democrat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iunque può partecipare ai lavori e contribuire alla stesura delle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appresentatività degli Organ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involgimento delle parti economiche e sociali interess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 principi della n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raspar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egolamenti 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chiesta Pubblica Prelim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essa allo studio, stes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chiesta Pubblica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atifica, pubbl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Volontar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iferimento che le parti interessate si impongono spontane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artecipazione: valutazione di interesse e conven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pplicazione: riconoscimento del valore e del ruolo del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990720" y="4572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Arial"/>
              </a:rPr>
              <a:t>Protagonisti o compa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30120" y="4292640"/>
            <a:ext cx="626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Subire a posteriori le decisioni prese dai propri concorren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Calibri"/>
                <a:ea typeface="Calibri"/>
              </a:rPr>
              <a:t>&gt; VIN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Object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590920" cy="1989000"/>
          </a:xfrm>
          <a:prstGeom prst="rect">
            <a:avLst/>
          </a:prstGeom>
          <a:ln w="0">
            <a:noFill/>
          </a:ln>
        </p:spPr>
      </p:pic>
      <p:pic>
        <p:nvPicPr>
          <p:cNvPr id="520" name="Object 5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6"/>
          <p:cNvSpPr/>
          <p:nvPr/>
        </p:nvSpPr>
        <p:spPr>
          <a:xfrm>
            <a:off x="3348000" y="1484280"/>
            <a:ext cx="5275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ahom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Dare la propria impronta sulla base delle proprie competenze, capacità ed esperien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r>
              <a:rPr b="1" lang="it-IT" sz="3600" spc="-1" strike="noStrike">
                <a:solidFill>
                  <a:srgbClr val="0070c0"/>
                </a:solidFill>
                <a:latin typeface="Calibri"/>
                <a:ea typeface="Calibri"/>
              </a:rPr>
              <a:t>&gt; OPPORTUNITA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valore aggiunto</a:t>
            </a:r>
            <a:br>
              <a:rPr sz="4400"/>
            </a:b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delle norme 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sono strumenti di regolamentazione volontaria </a:t>
            </a:r>
            <a:r>
              <a:rPr b="0" lang="it-IT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tenzialmente più efficaci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di quelli cogenti in quanto condivi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definiscono lo </a:t>
            </a:r>
            <a:r>
              <a:rPr b="0" lang="it-IT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tato dell’arte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, mantenendolo aggiorna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non sostituiscono ma </a:t>
            </a:r>
            <a:r>
              <a:rPr b="0" lang="it-IT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lorizzano le competen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sono </a:t>
            </a:r>
            <a:r>
              <a:rPr b="0" lang="it-IT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oluzioni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 concordate a problemi ricorren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sono veri e propri "</a:t>
            </a:r>
            <a:r>
              <a:rPr b="0" lang="it-IT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trumenti di lavoro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valore aggiunto</a:t>
            </a:r>
            <a:br>
              <a:rPr sz="4400"/>
            </a:b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delle norme 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sinergia con le disposizioni cogen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Nuovo Approcc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disposizioni legislative (decreti) per definire principi e requisiti cogen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rimando a norme tecniche per aspetti attuativi e requisiti tecnici di dettagl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accreditamento e certificazione per la verifica della conformit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carattere innovativo del rapporto norme/leggi nei dispositivi regolamentar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Il valore aggiunto</a:t>
            </a:r>
            <a:br>
              <a:rPr sz="4400"/>
            </a:b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delle norme 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per l’utilizzatore della norm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una più diretta via al rispetto dei requisiti di leg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"presunzione di conformità"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  <a:ea typeface="Calibri"/>
              </a:rPr>
              <a:t>per il legislator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una maggiore flessibilità nel seguire l’evoluzione dello stato dell’a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libri"/>
                <a:ea typeface="Calibri"/>
              </a:rPr>
              <a:t>una mitigazione del rischio di obsolescenza della legisl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Legge 14 gennaio 2013, n.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8640" y="1601640"/>
            <a:ext cx="82267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Autoregola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volo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Partecipazione ai lavori normativi 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diretta o indir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Qualificazione de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requisiti e modalità di esercizio della prof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Certif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conformità alle norme tecniche 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  <a:ea typeface="Calibri"/>
              </a:rPr>
              <a:t>Legge 14 gennaio 2013, n.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Segnaposto contenuto 1" descr=""/>
          <p:cNvPicPr/>
          <p:nvPr/>
        </p:nvPicPr>
        <p:blipFill>
          <a:blip r:embed="rId1"/>
          <a:stretch/>
        </p:blipFill>
        <p:spPr>
          <a:xfrm>
            <a:off x="457200" y="1414440"/>
            <a:ext cx="82296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8:48:47Z</dcterms:created>
  <dc:creator>Alberto Galeotto</dc:creator>
  <dc:description/>
  <dc:language>en-US</dc:language>
  <cp:lastModifiedBy>Alberto Galeotto</cp:lastModifiedBy>
  <cp:lastPrinted>2012-11-07T09:47:06Z</cp:lastPrinted>
  <dcterms:modified xsi:type="dcterms:W3CDTF">2013-11-25T16:13:38Z</dcterms:modified>
  <cp:revision>43</cp:revision>
  <dc:subject/>
  <dc:title>Le norme UNI per la qualificazione degli istituti di vigilanza privata</dc:title>
</cp:coreProperties>
</file>